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057400" y="3384720"/>
            <a:ext cx="2971800" cy="1261800"/>
          </a:xfrm>
          <a:prstGeom prst="roundRect">
            <a:avLst>
              <a:gd name="adj" fmla="val 125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4305240" y="6362640"/>
            <a:ext cx="2057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4751280" y="6591240"/>
            <a:ext cx="138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ient J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828800" y="1784520"/>
            <a:ext cx="1600200" cy="3200400"/>
          </a:xfrm>
          <a:custGeom>
            <a:avLst/>
            <a:gdLst>
              <a:gd name="textAreaLeft" fmla="*/ 360 w 1600200"/>
              <a:gd name="textAreaRight" fmla="*/ 1599840 w 1600200"/>
              <a:gd name="textAreaTop" fmla="*/ 360 h 3200400"/>
              <a:gd name="textAreaBottom" fmla="*/ 3200040 h 3200400"/>
            </a:gdLst>
            <a:ahLst/>
            <a:rect l="textAreaLeft" t="textAreaTop" r="textAreaRight" b="textAreaBottom"/>
            <a:pathLst>
              <a:path w="21600" h="43195">
                <a:moveTo>
                  <a:pt x="21" y="0"/>
                </a:moveTo>
                <a:arcTo wR="21" hR="21" stAng="16200000" swAng="-5400000"/>
                <a:lnTo>
                  <a:pt x="0" y="43174"/>
                </a:lnTo>
                <a:arcTo wR="21" hR="21" stAng="10800000" swAng="-5400000"/>
                <a:lnTo>
                  <a:pt x="21579" y="43195"/>
                </a:lnTo>
                <a:arcTo wR="21" hR="21" stAng="5400000" swAng="-5400000"/>
                <a:lnTo>
                  <a:pt x="21600" y="21"/>
                </a:lnTo>
                <a:arcTo wR="21" hR="21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62000" y="1871640"/>
            <a:ext cx="114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on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30360" y="2698920"/>
            <a:ext cx="6858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67160" y="2819520"/>
            <a:ext cx="40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1784520"/>
            <a:ext cx="1600200" cy="3200400"/>
          </a:xfrm>
          <a:custGeom>
            <a:avLst/>
            <a:gdLst>
              <a:gd name="textAreaLeft" fmla="*/ 360 w 1600200"/>
              <a:gd name="textAreaRight" fmla="*/ 1599840 w 1600200"/>
              <a:gd name="textAreaTop" fmla="*/ 360 h 3200400"/>
              <a:gd name="textAreaBottom" fmla="*/ 3200040 h 3200400"/>
            </a:gdLst>
            <a:ahLst/>
            <a:rect l="textAreaLeft" t="textAreaTop" r="textAreaRight" b="textAreaBottom"/>
            <a:pathLst>
              <a:path w="21600" h="43195">
                <a:moveTo>
                  <a:pt x="21" y="0"/>
                </a:moveTo>
                <a:arcTo wR="21" hR="21" stAng="16200000" swAng="-5400000"/>
                <a:lnTo>
                  <a:pt x="0" y="43174"/>
                </a:lnTo>
                <a:arcTo wR="21" hR="21" stAng="10800000" swAng="-5400000"/>
                <a:lnTo>
                  <a:pt x="21579" y="43195"/>
                </a:lnTo>
                <a:arcTo wR="21" hR="21" stAng="5400000" swAng="-5400000"/>
                <a:lnTo>
                  <a:pt x="21600" y="21"/>
                </a:lnTo>
                <a:arcTo wR="21" hR="21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51160" y="1855800"/>
            <a:ext cx="114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on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86200" y="2698920"/>
            <a:ext cx="6858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23000" y="2819520"/>
            <a:ext cx="40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22360" y="3613320"/>
            <a:ext cx="914400" cy="684000"/>
          </a:xfrm>
          <a:custGeom>
            <a:avLst/>
            <a:gdLst/>
            <a:ahLst/>
            <a:rect l="l" t="t" r="r" b="b"/>
            <a:pathLst>
              <a:path w="2541" h="1901">
                <a:moveTo>
                  <a:pt x="0" y="1900"/>
                </a:moveTo>
                <a:cubicBezTo>
                  <a:pt x="0" y="1266"/>
                  <a:pt x="0" y="632"/>
                  <a:pt x="0" y="0"/>
                </a:cubicBezTo>
                <a:cubicBezTo>
                  <a:pt x="847" y="0"/>
                  <a:pt x="1693" y="0"/>
                  <a:pt x="2540" y="0"/>
                </a:cubicBezTo>
                <a:cubicBezTo>
                  <a:pt x="2540" y="632"/>
                  <a:pt x="2540" y="1266"/>
                  <a:pt x="2540" y="1900"/>
                </a:cubicBezTo>
                <a:cubicBezTo>
                  <a:pt x="1694" y="1900"/>
                  <a:pt x="847" y="1900"/>
                  <a:pt x="0" y="19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71680" y="3613320"/>
            <a:ext cx="8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JORAM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70360" y="3613320"/>
            <a:ext cx="914400" cy="684000"/>
          </a:xfrm>
          <a:custGeom>
            <a:avLst/>
            <a:gdLst/>
            <a:ahLst/>
            <a:rect l="l" t="t" r="r" b="b"/>
            <a:pathLst>
              <a:path w="2541" h="1902">
                <a:moveTo>
                  <a:pt x="0" y="1901"/>
                </a:moveTo>
                <a:cubicBezTo>
                  <a:pt x="0" y="1266"/>
                  <a:pt x="0" y="632"/>
                  <a:pt x="0" y="0"/>
                </a:cubicBezTo>
                <a:cubicBezTo>
                  <a:pt x="847" y="0"/>
                  <a:pt x="1693" y="0"/>
                  <a:pt x="2540" y="0"/>
                </a:cubicBezTo>
                <a:cubicBezTo>
                  <a:pt x="2540" y="632"/>
                  <a:pt x="2540" y="1266"/>
                  <a:pt x="2540" y="1901"/>
                </a:cubicBezTo>
                <a:cubicBezTo>
                  <a:pt x="1694" y="1901"/>
                  <a:pt x="847" y="1901"/>
                  <a:pt x="0" y="190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6040" y="3637080"/>
            <a:ext cx="8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JORAM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91360" y="4276800"/>
            <a:ext cx="187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Times New Roman"/>
              </a:rPr>
              <a:t>JORAM H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65880" y="1784520"/>
            <a:ext cx="1600200" cy="3200400"/>
          </a:xfrm>
          <a:custGeom>
            <a:avLst/>
            <a:gdLst>
              <a:gd name="textAreaLeft" fmla="*/ 360 w 1600200"/>
              <a:gd name="textAreaRight" fmla="*/ 1599840 w 1600200"/>
              <a:gd name="textAreaTop" fmla="*/ 360 h 3200400"/>
              <a:gd name="textAreaBottom" fmla="*/ 3200040 h 3200400"/>
            </a:gdLst>
            <a:ahLst/>
            <a:rect l="textAreaLeft" t="textAreaTop" r="textAreaRight" b="textAreaBottom"/>
            <a:pathLst>
              <a:path w="21600" h="43195">
                <a:moveTo>
                  <a:pt x="21" y="0"/>
                </a:moveTo>
                <a:arcTo wR="21" hR="21" stAng="16200000" swAng="-5400000"/>
                <a:lnTo>
                  <a:pt x="0" y="43174"/>
                </a:lnTo>
                <a:arcTo wR="21" hR="21" stAng="10800000" swAng="-5400000"/>
                <a:lnTo>
                  <a:pt x="21579" y="43195"/>
                </a:lnTo>
                <a:arcTo wR="21" hR="21" stAng="5400000" swAng="-5400000"/>
                <a:lnTo>
                  <a:pt x="21600" y="21"/>
                </a:lnTo>
                <a:arcTo wR="21" hR="21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99080" y="1871640"/>
            <a:ext cx="114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onA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66000" y="2698920"/>
            <a:ext cx="6858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04240" y="2819520"/>
            <a:ext cx="40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94680" y="1784520"/>
            <a:ext cx="1600200" cy="3200400"/>
          </a:xfrm>
          <a:custGeom>
            <a:avLst/>
            <a:gdLst>
              <a:gd name="textAreaLeft" fmla="*/ 360 w 1600200"/>
              <a:gd name="textAreaRight" fmla="*/ 1599840 w 1600200"/>
              <a:gd name="textAreaTop" fmla="*/ 360 h 3200400"/>
              <a:gd name="textAreaBottom" fmla="*/ 3200040 h 3200400"/>
            </a:gdLst>
            <a:ahLst/>
            <a:rect l="textAreaLeft" t="textAreaTop" r="textAreaRight" b="textAreaBottom"/>
            <a:pathLst>
              <a:path w="21600" h="43195">
                <a:moveTo>
                  <a:pt x="21" y="0"/>
                </a:moveTo>
                <a:arcTo wR="21" hR="21" stAng="16200000" swAng="-5400000"/>
                <a:lnTo>
                  <a:pt x="0" y="43174"/>
                </a:lnTo>
                <a:arcTo wR="21" hR="21" stAng="10800000" swAng="-5400000"/>
                <a:lnTo>
                  <a:pt x="21579" y="43195"/>
                </a:lnTo>
                <a:arcTo wR="21" hR="21" stAng="5400000" swAng="-5400000"/>
                <a:lnTo>
                  <a:pt x="21600" y="21"/>
                </a:lnTo>
                <a:arcTo wR="21" hR="21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786800" y="1855800"/>
            <a:ext cx="114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onAS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23280" y="2698920"/>
            <a:ext cx="6858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59720" y="2819520"/>
            <a:ext cx="40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1920"/>
            <a:ext cx="228600" cy="228600"/>
          </a:xfrm>
          <a:prstGeom prst="ellipse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4600" y="3841920"/>
            <a:ext cx="228600" cy="228600"/>
          </a:xfrm>
          <a:prstGeom prst="ellipse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57760" y="3384720"/>
            <a:ext cx="2971800" cy="1261800"/>
          </a:xfrm>
          <a:prstGeom prst="roundRect">
            <a:avLst>
              <a:gd name="adj" fmla="val 125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23080" y="3613320"/>
            <a:ext cx="914400" cy="684000"/>
          </a:xfrm>
          <a:custGeom>
            <a:avLst/>
            <a:gdLst/>
            <a:ahLst/>
            <a:rect l="l" t="t" r="r" b="b"/>
            <a:pathLst>
              <a:path w="2541" h="1901">
                <a:moveTo>
                  <a:pt x="0" y="1900"/>
                </a:moveTo>
                <a:cubicBezTo>
                  <a:pt x="0" y="1266"/>
                  <a:pt x="0" y="632"/>
                  <a:pt x="0" y="0"/>
                </a:cubicBezTo>
                <a:cubicBezTo>
                  <a:pt x="847" y="0"/>
                  <a:pt x="1693" y="0"/>
                  <a:pt x="2540" y="0"/>
                </a:cubicBezTo>
                <a:cubicBezTo>
                  <a:pt x="2540" y="632"/>
                  <a:pt x="2540" y="1266"/>
                  <a:pt x="2540" y="1900"/>
                </a:cubicBezTo>
                <a:cubicBezTo>
                  <a:pt x="1694" y="1900"/>
                  <a:pt x="847" y="1900"/>
                  <a:pt x="0" y="19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72040" y="3613320"/>
            <a:ext cx="8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JORAM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70720" y="3613320"/>
            <a:ext cx="914400" cy="684000"/>
          </a:xfrm>
          <a:custGeom>
            <a:avLst/>
            <a:gdLst/>
            <a:ahLst/>
            <a:rect l="l" t="t" r="r" b="b"/>
            <a:pathLst>
              <a:path w="2541" h="1902">
                <a:moveTo>
                  <a:pt x="0" y="1901"/>
                </a:moveTo>
                <a:cubicBezTo>
                  <a:pt x="0" y="1266"/>
                  <a:pt x="0" y="632"/>
                  <a:pt x="0" y="0"/>
                </a:cubicBezTo>
                <a:cubicBezTo>
                  <a:pt x="847" y="0"/>
                  <a:pt x="1693" y="0"/>
                  <a:pt x="2540" y="0"/>
                </a:cubicBezTo>
                <a:cubicBezTo>
                  <a:pt x="2540" y="632"/>
                  <a:pt x="2540" y="1266"/>
                  <a:pt x="2540" y="1901"/>
                </a:cubicBezTo>
                <a:cubicBezTo>
                  <a:pt x="1694" y="1901"/>
                  <a:pt x="847" y="1901"/>
                  <a:pt x="0" y="190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556400" y="3637080"/>
            <a:ext cx="8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JORAM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92080" y="4276800"/>
            <a:ext cx="187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Times New Roman"/>
              </a:rPr>
              <a:t>JORAM H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715160" y="3841920"/>
            <a:ext cx="228600" cy="228600"/>
          </a:xfrm>
          <a:prstGeom prst="ellipse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14960" y="3841920"/>
            <a:ext cx="228600" cy="228600"/>
          </a:xfrm>
          <a:prstGeom prst="ellipse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3886200"/>
            <a:ext cx="1371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5920" y="3692520"/>
            <a:ext cx="814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Objet J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istribu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4800600"/>
            <a:ext cx="1600200" cy="1600200"/>
          </a:xfrm>
          <a:prstGeom prst="line">
            <a:avLst/>
          </a:prstGeom>
          <a:ln w="54720">
            <a:solidFill>
              <a:srgbClr val="ff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256360" y="4800600"/>
            <a:ext cx="1374480" cy="1600200"/>
          </a:xfrm>
          <a:prstGeom prst="line">
            <a:avLst/>
          </a:prstGeom>
          <a:ln w="54720">
            <a:solidFill>
              <a:srgbClr val="ff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560" y="5715000"/>
            <a:ext cx="38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66"/>
                </a:solidFill>
                <a:latin typeface="Times New Roman"/>
              </a:rPr>
              <a:t>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3994200"/>
            <a:ext cx="685800" cy="1440"/>
          </a:xfrm>
          <a:prstGeom prst="line">
            <a:avLst/>
          </a:prstGeom>
          <a:ln w="91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00760" y="3994200"/>
            <a:ext cx="685800" cy="1440"/>
          </a:xfrm>
          <a:prstGeom prst="line">
            <a:avLst/>
          </a:prstGeom>
          <a:ln w="91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743200" y="3161880"/>
            <a:ext cx="1440" cy="460440"/>
          </a:xfrm>
          <a:prstGeom prst="line">
            <a:avLst/>
          </a:prstGeom>
          <a:ln w="73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378480" y="3161880"/>
            <a:ext cx="1800" cy="460440"/>
          </a:xfrm>
          <a:prstGeom prst="line">
            <a:avLst/>
          </a:prstGeom>
          <a:ln w="73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